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8B70-F949-4383-8CA4-27B6F4FB050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1B4-D370-4CCC-BCA0-889E79C7C8D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66A6-A4DA-4407-BB49-DCF96594BDB1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885-AFAE-4571-8876-E8B4B111DBC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A7A-47B9-4EB9-8739-509FADC0E25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900A-4172-436B-80A6-95F17E05BBCB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745-E834-447E-9166-4D8D9EFC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8DA-9E67-41D2-9928-405D13B7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1B7-88A5-4A41-AFC0-F5AEBCFE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72E-84B7-48A3-BBD4-CAEDD245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979-792C-474A-B30F-D6D6045F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AA1-E6FF-4FFB-8454-B55456CD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60C-2FAC-4907-8FDE-A28F5D2C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466D-E31F-4CCE-A456-AD0DD19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CC99-349E-491A-A3CC-CB92FCE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B27-9085-4632-B4E8-B65EAA0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6C49-FB81-48FE-8285-C60C41C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368-4B88-409D-83C1-CF946DC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13F9-FCC3-4AE7-9993-3D0601C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C97F-E5B0-4F8B-9942-0DF9C31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1FB8-2426-44DC-A136-9596EE4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E359-1607-49E5-A478-688C9770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FCEA-12EF-450D-8FC8-7F74A71D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8BFE-61FE-424E-A50E-BF68648C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BBE8-323F-4B96-A059-A708AC2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5F49-4194-4115-B978-CBE1863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CF74-17AD-4948-BA4D-1A7D7FF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DEBF-6108-4E4B-AC6A-6C470F0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7DC-A8F1-4AE6-A96F-960ED8F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0D25-E2FD-46AB-9794-AE0E1950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D9BE-E704-4231-BBFF-F90D282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6AD9-4394-4591-8F7E-922CC90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A635-4BE4-443A-B9E3-AEBC36D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9526-F416-46A9-AFA1-394DAD10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9317-7EF7-4322-9E66-04FEF5F5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2582-D23C-4480-81BD-50240CF2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C09-D84C-4593-8C36-3529513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1F8-492F-46E0-BA0F-8A16D4F7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63C-4C58-4906-9DB1-8931E52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5C6-8A1D-4495-B9BB-F1C532F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6DC-6ECE-42CB-A832-7D547B3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052-B639-472F-8E19-4D96895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C72-050F-4500-8144-C4415AD38A2C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46" b="1407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3937-A8F3-40D0-B995-A7FB42CBE87F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F963-E717-4CD5-AE1A-ED4C10820436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 Huuska, ympäristösuunnittel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.huuska@hel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18920" y="7920"/>
            <a:ext cx="7635960" cy="27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mmenttipuheenvuoro THL avoin energiamalli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4.bp.blogspot.com/_kxPG6y8Qctk/SuB67e-Q64I/AAAAAAAANzc/lB7e6N6tvWI/s400/Wind_Middelgrunden1_000671.jpg"/>
          <p:cNvPicPr/>
          <p:nvPr/>
        </p:nvPicPr>
        <p:blipFill>
          <a:blip r:embed="rId1"/>
          <a:stretch/>
        </p:blipFill>
        <p:spPr>
          <a:xfrm>
            <a:off x="1187280" y="1476360"/>
            <a:ext cx="619308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uomioita avoimesta mallis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nianhimoinen kokei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yrkii edistämään avointa arviointia ja avoimempaa päätöksentekokäytäntö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oisi luoda pohjan alustalle, joka mahdollistaa eri tahojen asiantuntemuksen käytö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uo keskusteluun, voisiko tällaisella periaatteella tehdä myös tärkeitä selvityksiä avoimesti, ja mitä hyötyjä ja haittoja siitä seuraisi (suljettu päätöksenteko vs. avo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uonut keskusteluun uusia energiantuotantovaihtoeht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oletukset ja laskentaperusteet mahdollista kyseenalaistaa ja kehittää vain jos ne avataan, nämä mallissa periaatteessa näkyvissä, tosin vaatii hieman tutustum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voimempi valmistelu voi periaatteessa lisätä demokratiaa ja tuoda onnistuessaan parhaaseen asiantuntemukseen perustuvia tuloksia, koska päätökset perusteltava hy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voin data, osallistava ja läpinäkyvä päätöksenteko sekä uudenlaiset digitaaliset alustat, joilla eri päätösten vaikutuksia voi tutkailla graafien ja visualisointien avulla, on sinänsä tulevaisuuden su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17E-7DBF-44D2-BACF-CCEC062F2B9F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Kohderyhmän huomioiminen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lli on nykyisellään oppimisympäristö, muttei kovin helppokäyttöin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oisi parhaimmillaan toimia viestintäympäristönä asioiden merkityksestä, mutta toistaiseksi visuaalisuutta ei riittävä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dellyttäisi suurta ymmärrettävyyttä ja visuaalisuutta, sekä lähtötietojen oikeellisuutta, jotta kokeilemalla näkisi suuntaviivoja erilaisista vaihtoehdoista vrt. HSY ilmastove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vallisten ihmisten energiatiedon puute suuri haaste, (esim. vaikutus lämpö- ja sähkölaskuun erityisesti kiinnostaa päästöjen ohel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nglannin kieli (laajemmat tiedot ja tulokset) rajoittee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CC05-C9AA-4AC8-BE54-0288177B3EE3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Avoimen energiamallinnuksen rajoittei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nergiamallinnus kohteena erittäin haas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ergiajärjestelmä erittäin monimutkainen mallinnettava (tehty jo pitkään Helsingissä, tulokset elävä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ykyisiä tarkkoja lähtötietoja ei pystytä käyttämään (liikesalaisuuk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Investointien kannattavuutta ei voi laskea ilman tarkkoja lähtötie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nergian hinnat vaihtelevat vuorokauden- ja vuodenajan muk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ulevaisuuden sähkön ja polttoaineiden hinnat riippuvat paljon politiik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alli on niin hyvä kuin lähtötie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Parhaiden asiantuntijoiden mukaan saaminen voi olla haastavaa, joka reunaehto -&gt; edellyttäisi laajaa osallistumista onnistuak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s ei tuota sellaisia tuloksia, jonka perusteella voisi tehdä johtopäätöksiä energiavalinnoista, voi pahimmillaan johtaa huonoihin johtopäätöksiin jos väärät lähtötied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18DF-B795-4C80-A4E6-B05E62BF53A0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Johtopäätöksiä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5240" y="1341000"/>
            <a:ext cx="8313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ksen suurin arvo ei ole tuloksissa, vaan sen edustamassa uudessa mahdollisessa toimintatavassa -&gt; päätöksenteon suunta kohti avoimuutta, osallistavuutta ja läpinäkyvyytt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elvitys voi parhaimmillaan lisätä keskustelua erilaista energiavaihtoehdoista, muttei juuri tuota päätöksentekoa helpottavaa tiet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HL energia-arviointi on rohkea kokeilu, jota menetelmänä ja visuaalisuudeltaan kannattaa tulevaisuudessa kehittää eteenpä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aupunki voisi tarjota helpomman aiheen, jossa avointa mallinnusta sovellettaisi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6026-3A6D-4A4E-A63C-F57ADBF4805F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03:13Z</dcterms:created>
  <dc:creator>Huuska Petteri</dc:creator>
  <dc:description/>
  <dc:language>en-US</dc:language>
  <cp:lastModifiedBy>Huuska Petteri</cp:lastModifiedBy>
  <dcterms:modified xsi:type="dcterms:W3CDTF">2015-09-10T20:16:01Z</dcterms:modified>
  <cp:revision>65</cp:revision>
  <dc:subject/>
  <dc:title>PKS ja Helsingin ilmastotyö sekä Helen kehitysohjel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